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00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296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572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37548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2960" y="937548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7111-9ABC-443E-BC13-20E52DDE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2C5-2112-4170-A04D-615046E7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5A0-8523-4053-BBB0-6AE9FAF7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C24-26FB-4FD6-9770-0B944F8E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586-8BDD-41F6-8021-5C2E720C5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856-F80D-400C-B5A7-5F275845B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4BB-9FF0-40D4-9406-87A71708D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C77-D3C9-418A-8598-934A81AC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C67-3D69-4CDC-881A-C38A79F6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2EC-83C3-4EAD-B857-5AE5A96F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679-EA8B-4684-8034-F275B20B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69D-A99C-4154-98BA-35C0453A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35B-AF6D-4707-A7BC-8EC212990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87C7-5D7A-4E9B-A6AD-4595F5038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3AE-DF33-4929-A53C-D0ED74ABE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FA6-D9DE-4839-9948-7ACBF461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4FC4-728E-4F05-BB87-FA9C42B1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90A-3A11-4AD2-9144-17B030E9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63D-F690-47EF-8A0E-30E1A6255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6BD-D6C4-4297-9D2B-0FD5B226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68DD-61D0-4B4D-9E4A-662D3168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879-EDA6-45CD-A8F5-6F75903D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12E-C803-44EA-835F-4E7672BE4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DE4-6D5C-4CA0-9B2F-D5856D8A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DE06-5548-471A-94B1-986BF725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BFE-9DAD-4AB0-A88A-A6716E9EC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8B7-47C6-4184-BE76-1AE04198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F715-CD7E-4200-BEE2-12C14E09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A96-F957-4B99-9B0D-53765906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180C-C552-45E7-8F77-BC6EA263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B42-98CB-4B9E-A1D4-7BA09976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004-503D-4662-B946-8A1B197C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091-9188-4D1E-95A6-F19AF3FC0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2377-42A3-43E9-A040-C65B212B2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F65-FEDB-4584-9E82-E1EA3E55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666-7A6C-44A4-9AC6-860021A4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B601-0F3F-47E8-B484-9A2578D6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CA1-61A0-45AB-9367-7042DA605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4915-2A22-46F0-9D8B-A224B05B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269-E32B-47C4-B557-DDB8C5CC1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A17-0689-4125-9E16-4D5BA833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520-6A92-4975-B1A8-5F18D5DE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E552-75DC-4B1A-899A-8F753538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439-48A8-410D-BC13-CF20AF6F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0FE-37A7-4D2A-9083-3D959A0D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32F-8E62-4E69-A8DA-0EB762ED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A97-7666-481B-A3BD-75B14485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7AF-B89D-4A70-8959-D497AFD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008-AF92-4A4F-A2F2-241FC041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D9C-7491-4BCA-AC91-EA216BEB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EE2-5C52-4EFC-9C3A-341C99F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D2C-3F5C-4DFF-925B-8069931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19B-816F-4432-AF57-2D3392F0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EB0-3C59-4F82-A5A3-5FC5BBE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C39-EB50-4722-91F5-087982E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DDE-9C6F-4464-B96E-58A37F2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A92-9ADD-4D08-A66E-AFA13B62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BFF-58AB-44F0-A19F-17870A4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6F8-0042-4377-A710-1B42B55E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" name="Picture 9" descr="F:\website docs\graphics5\asybackgfade.gif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1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2286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TAD 2000</a:t>
            </a:r>
            <a:endParaRPr b="1" lang="en-US" sz="1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B23-714E-4C4A-9838-A7C0AB44B9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" name="AutoShape 12">
            <a:hlinkClick r:id="" action="ppaction://hlinkshowjump?jump=firstslide"/>
          </p:cNvPr>
          <p:cNvSpPr/>
          <p:nvPr/>
        </p:nvSpPr>
        <p:spPr>
          <a:xfrm>
            <a:off x="792468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" name="AutoShape 13">
            <a:hlinkClick r:id="" action="ppaction://hlinkshowjump?jump=endshow"/>
          </p:cNvPr>
          <p:cNvSpPr/>
          <p:nvPr/>
        </p:nvSpPr>
        <p:spPr>
          <a:xfrm>
            <a:off x="853452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066680" y="533520"/>
            <a:ext cx="7239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4" name="Picture 21" descr="F:\website docs\graphics5\asycuda logo.gif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23857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Management process steps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are a generic guide for </a:t>
            </a: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any organisation, regardless of the </a:t>
            </a: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ype of business, activity or function.</a:t>
            </a:r>
            <a:r>
              <a:rPr b="1" lang="en-US" sz="26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Risk Management used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83818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06" name="Group 65"/>
          <p:cNvGrpSpPr/>
          <p:nvPr/>
        </p:nvGrpSpPr>
        <p:grpSpPr>
          <a:xfrm>
            <a:off x="5029200" y="2133720"/>
            <a:ext cx="3885840" cy="3606480"/>
            <a:chOff x="5029200" y="2133720"/>
            <a:chExt cx="3885840" cy="3606480"/>
          </a:xfrm>
        </p:grpSpPr>
        <p:sp>
          <p:nvSpPr>
            <p:cNvPr id="107" name="Oval 10"/>
            <p:cNvSpPr/>
            <p:nvPr/>
          </p:nvSpPr>
          <p:spPr>
            <a:xfrm>
              <a:off x="5715000" y="2590920"/>
              <a:ext cx="2590920" cy="2590560"/>
            </a:xfrm>
            <a:prstGeom prst="ellipse">
              <a:avLst/>
            </a:prstGeom>
            <a:solidFill>
              <a:srgbClr val="00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There are</a:t>
              </a:r>
              <a:r>
                <a:rPr b="1" lang="en-US" sz="2400" spc="-1" strike="noStrike">
                  <a:solidFill>
                    <a:srgbClr val="ffff99"/>
                  </a:solidFill>
                  <a:latin typeface="Comic Sans MS"/>
                </a:rPr>
                <a:t> 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99"/>
                  </a:solidFill>
                  <a:latin typeface="Comic Sans MS"/>
                </a:rPr>
                <a:t>7</a:t>
              </a:r>
              <a:r>
                <a:rPr b="1" lang="en-US" sz="2400" spc="-1" strike="noStrike">
                  <a:solidFill>
                    <a:srgbClr val="ffff99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steps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in the RM 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process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grpSp>
          <p:nvGrpSpPr>
            <p:cNvPr id="108" name="Group 56"/>
            <p:cNvGrpSpPr/>
            <p:nvPr/>
          </p:nvGrpSpPr>
          <p:grpSpPr>
            <a:xfrm>
              <a:off x="5029200" y="2133720"/>
              <a:ext cx="3885840" cy="3606480"/>
              <a:chOff x="5029200" y="2133720"/>
              <a:chExt cx="3885840" cy="3606480"/>
            </a:xfrm>
          </p:grpSpPr>
          <p:sp>
            <p:nvSpPr>
              <p:cNvPr id="109" name="Freeform 57"/>
              <p:cNvSpPr/>
              <p:nvPr/>
            </p:nvSpPr>
            <p:spPr>
              <a:xfrm>
                <a:off x="5378760" y="2133720"/>
                <a:ext cx="1405800" cy="13280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1328040"/>
                  <a:gd name="textAreaBottom" fmla="*/ 1328400 h 1328040"/>
                </a:gdLst>
                <a:ahLst/>
                <a:rect l="textAreaLeft" t="textAreaTop" r="textAreaRight" b="textAreaBottom"/>
                <a:pathLst>
                  <a:path w="1016" h="904">
                    <a:moveTo>
                      <a:pt x="0" y="717"/>
                    </a:moveTo>
                    <a:lnTo>
                      <a:pt x="10" y="698"/>
                    </a:lnTo>
                    <a:lnTo>
                      <a:pt x="20" y="683"/>
                    </a:lnTo>
                    <a:lnTo>
                      <a:pt x="29" y="667"/>
                    </a:lnTo>
                    <a:lnTo>
                      <a:pt x="38" y="652"/>
                    </a:lnTo>
                    <a:lnTo>
                      <a:pt x="48" y="635"/>
                    </a:lnTo>
                    <a:lnTo>
                      <a:pt x="60" y="619"/>
                    </a:lnTo>
                    <a:lnTo>
                      <a:pt x="70" y="604"/>
                    </a:lnTo>
                    <a:lnTo>
                      <a:pt x="81" y="588"/>
                    </a:lnTo>
                    <a:lnTo>
                      <a:pt x="95" y="569"/>
                    </a:lnTo>
                    <a:lnTo>
                      <a:pt x="111" y="549"/>
                    </a:lnTo>
                    <a:lnTo>
                      <a:pt x="123" y="534"/>
                    </a:lnTo>
                    <a:lnTo>
                      <a:pt x="137" y="519"/>
                    </a:lnTo>
                    <a:lnTo>
                      <a:pt x="151" y="502"/>
                    </a:lnTo>
                    <a:lnTo>
                      <a:pt x="167" y="483"/>
                    </a:lnTo>
                    <a:lnTo>
                      <a:pt x="183" y="467"/>
                    </a:lnTo>
                    <a:lnTo>
                      <a:pt x="199" y="449"/>
                    </a:lnTo>
                    <a:lnTo>
                      <a:pt x="215" y="435"/>
                    </a:lnTo>
                    <a:lnTo>
                      <a:pt x="235" y="415"/>
                    </a:lnTo>
                    <a:lnTo>
                      <a:pt x="252" y="399"/>
                    </a:lnTo>
                    <a:lnTo>
                      <a:pt x="269" y="385"/>
                    </a:lnTo>
                    <a:lnTo>
                      <a:pt x="288" y="369"/>
                    </a:lnTo>
                    <a:lnTo>
                      <a:pt x="302" y="357"/>
                    </a:lnTo>
                    <a:lnTo>
                      <a:pt x="321" y="343"/>
                    </a:lnTo>
                    <a:lnTo>
                      <a:pt x="339" y="329"/>
                    </a:lnTo>
                    <a:lnTo>
                      <a:pt x="361" y="314"/>
                    </a:lnTo>
                    <a:lnTo>
                      <a:pt x="379" y="302"/>
                    </a:lnTo>
                    <a:lnTo>
                      <a:pt x="400" y="286"/>
                    </a:lnTo>
                    <a:lnTo>
                      <a:pt x="425" y="271"/>
                    </a:lnTo>
                    <a:lnTo>
                      <a:pt x="449" y="256"/>
                    </a:lnTo>
                    <a:lnTo>
                      <a:pt x="473" y="241"/>
                    </a:lnTo>
                    <a:lnTo>
                      <a:pt x="498" y="227"/>
                    </a:lnTo>
                    <a:lnTo>
                      <a:pt x="524" y="214"/>
                    </a:lnTo>
                    <a:lnTo>
                      <a:pt x="552" y="200"/>
                    </a:lnTo>
                    <a:lnTo>
                      <a:pt x="575" y="191"/>
                    </a:lnTo>
                    <a:lnTo>
                      <a:pt x="597" y="179"/>
                    </a:lnTo>
                    <a:lnTo>
                      <a:pt x="623" y="170"/>
                    </a:lnTo>
                    <a:lnTo>
                      <a:pt x="641" y="163"/>
                    </a:lnTo>
                    <a:lnTo>
                      <a:pt x="563" y="0"/>
                    </a:lnTo>
                    <a:lnTo>
                      <a:pt x="1016" y="232"/>
                    </a:lnTo>
                    <a:lnTo>
                      <a:pt x="897" y="711"/>
                    </a:lnTo>
                    <a:lnTo>
                      <a:pt x="824" y="569"/>
                    </a:lnTo>
                    <a:lnTo>
                      <a:pt x="794" y="582"/>
                    </a:lnTo>
                    <a:lnTo>
                      <a:pt x="765" y="596"/>
                    </a:lnTo>
                    <a:lnTo>
                      <a:pt x="734" y="613"/>
                    </a:lnTo>
                    <a:lnTo>
                      <a:pt x="700" y="633"/>
                    </a:lnTo>
                    <a:lnTo>
                      <a:pt x="674" y="650"/>
                    </a:lnTo>
                    <a:lnTo>
                      <a:pt x="648" y="670"/>
                    </a:lnTo>
                    <a:lnTo>
                      <a:pt x="622" y="689"/>
                    </a:lnTo>
                    <a:lnTo>
                      <a:pt x="600" y="709"/>
                    </a:lnTo>
                    <a:lnTo>
                      <a:pt x="579" y="729"/>
                    </a:lnTo>
                    <a:lnTo>
                      <a:pt x="555" y="752"/>
                    </a:lnTo>
                    <a:lnTo>
                      <a:pt x="536" y="774"/>
                    </a:lnTo>
                    <a:lnTo>
                      <a:pt x="516" y="796"/>
                    </a:lnTo>
                    <a:lnTo>
                      <a:pt x="499" y="816"/>
                    </a:lnTo>
                    <a:lnTo>
                      <a:pt x="481" y="842"/>
                    </a:lnTo>
                    <a:lnTo>
                      <a:pt x="464" y="867"/>
                    </a:lnTo>
                    <a:lnTo>
                      <a:pt x="455" y="885"/>
                    </a:lnTo>
                    <a:lnTo>
                      <a:pt x="443" y="904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0" name="Freeform 58"/>
              <p:cNvSpPr/>
              <p:nvPr/>
            </p:nvSpPr>
            <p:spPr>
              <a:xfrm>
                <a:off x="5029200" y="3070440"/>
                <a:ext cx="1239840" cy="147888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1478880"/>
                  <a:gd name="textAreaBottom" fmla="*/ 1479240 h 1478880"/>
                </a:gdLst>
                <a:ahLst/>
                <a:rect l="textAreaLeft" t="textAreaTop" r="textAreaRight" b="textAreaBottom"/>
                <a:pathLst>
                  <a:path w="895" h="1006">
                    <a:moveTo>
                      <a:pt x="895" y="416"/>
                    </a:moveTo>
                    <a:lnTo>
                      <a:pt x="667" y="332"/>
                    </a:lnTo>
                    <a:lnTo>
                      <a:pt x="657" y="352"/>
                    </a:lnTo>
                    <a:lnTo>
                      <a:pt x="652" y="371"/>
                    </a:lnTo>
                    <a:lnTo>
                      <a:pt x="646" y="390"/>
                    </a:lnTo>
                    <a:lnTo>
                      <a:pt x="641" y="411"/>
                    </a:lnTo>
                    <a:lnTo>
                      <a:pt x="634" y="438"/>
                    </a:lnTo>
                    <a:lnTo>
                      <a:pt x="630" y="460"/>
                    </a:lnTo>
                    <a:lnTo>
                      <a:pt x="626" y="485"/>
                    </a:lnTo>
                    <a:lnTo>
                      <a:pt x="624" y="511"/>
                    </a:lnTo>
                    <a:lnTo>
                      <a:pt x="621" y="539"/>
                    </a:lnTo>
                    <a:lnTo>
                      <a:pt x="621" y="589"/>
                    </a:lnTo>
                    <a:lnTo>
                      <a:pt x="622" y="615"/>
                    </a:lnTo>
                    <a:lnTo>
                      <a:pt x="624" y="639"/>
                    </a:lnTo>
                    <a:lnTo>
                      <a:pt x="628" y="664"/>
                    </a:lnTo>
                    <a:lnTo>
                      <a:pt x="633" y="688"/>
                    </a:lnTo>
                    <a:lnTo>
                      <a:pt x="638" y="711"/>
                    </a:lnTo>
                    <a:lnTo>
                      <a:pt x="644" y="739"/>
                    </a:lnTo>
                    <a:lnTo>
                      <a:pt x="654" y="765"/>
                    </a:lnTo>
                    <a:lnTo>
                      <a:pt x="227" y="1006"/>
                    </a:lnTo>
                    <a:lnTo>
                      <a:pt x="217" y="981"/>
                    </a:lnTo>
                    <a:lnTo>
                      <a:pt x="208" y="960"/>
                    </a:lnTo>
                    <a:lnTo>
                      <a:pt x="200" y="940"/>
                    </a:lnTo>
                    <a:lnTo>
                      <a:pt x="192" y="918"/>
                    </a:lnTo>
                    <a:lnTo>
                      <a:pt x="185" y="900"/>
                    </a:lnTo>
                    <a:lnTo>
                      <a:pt x="178" y="879"/>
                    </a:lnTo>
                    <a:lnTo>
                      <a:pt x="172" y="859"/>
                    </a:lnTo>
                    <a:lnTo>
                      <a:pt x="167" y="840"/>
                    </a:lnTo>
                    <a:lnTo>
                      <a:pt x="162" y="821"/>
                    </a:lnTo>
                    <a:lnTo>
                      <a:pt x="156" y="797"/>
                    </a:lnTo>
                    <a:lnTo>
                      <a:pt x="152" y="773"/>
                    </a:lnTo>
                    <a:lnTo>
                      <a:pt x="146" y="750"/>
                    </a:lnTo>
                    <a:lnTo>
                      <a:pt x="141" y="728"/>
                    </a:lnTo>
                    <a:lnTo>
                      <a:pt x="139" y="702"/>
                    </a:lnTo>
                    <a:lnTo>
                      <a:pt x="136" y="678"/>
                    </a:lnTo>
                    <a:lnTo>
                      <a:pt x="133" y="650"/>
                    </a:lnTo>
                    <a:lnTo>
                      <a:pt x="131" y="623"/>
                    </a:lnTo>
                    <a:lnTo>
                      <a:pt x="131" y="596"/>
                    </a:lnTo>
                    <a:lnTo>
                      <a:pt x="131" y="568"/>
                    </a:lnTo>
                    <a:lnTo>
                      <a:pt x="131" y="533"/>
                    </a:lnTo>
                    <a:lnTo>
                      <a:pt x="132" y="502"/>
                    </a:lnTo>
                    <a:lnTo>
                      <a:pt x="133" y="481"/>
                    </a:lnTo>
                    <a:lnTo>
                      <a:pt x="136" y="455"/>
                    </a:lnTo>
                    <a:lnTo>
                      <a:pt x="139" y="431"/>
                    </a:lnTo>
                    <a:lnTo>
                      <a:pt x="142" y="402"/>
                    </a:lnTo>
                    <a:lnTo>
                      <a:pt x="148" y="376"/>
                    </a:lnTo>
                    <a:lnTo>
                      <a:pt x="153" y="353"/>
                    </a:lnTo>
                    <a:lnTo>
                      <a:pt x="159" y="323"/>
                    </a:lnTo>
                    <a:lnTo>
                      <a:pt x="166" y="300"/>
                    </a:lnTo>
                    <a:lnTo>
                      <a:pt x="172" y="272"/>
                    </a:lnTo>
                    <a:lnTo>
                      <a:pt x="180" y="248"/>
                    </a:lnTo>
                    <a:lnTo>
                      <a:pt x="189" y="223"/>
                    </a:lnTo>
                    <a:lnTo>
                      <a:pt x="199" y="197"/>
                    </a:lnTo>
                    <a:lnTo>
                      <a:pt x="212" y="166"/>
                    </a:lnTo>
                    <a:lnTo>
                      <a:pt x="0" y="87"/>
                    </a:lnTo>
                    <a:lnTo>
                      <a:pt x="557" y="0"/>
                    </a:lnTo>
                    <a:lnTo>
                      <a:pt x="895" y="416"/>
                    </a:lnTo>
                    <a:close/>
                  </a:path>
                </a:pathLst>
              </a:custGeom>
              <a:solidFill>
                <a:srgbClr val="ffcc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5085720" y="4138200"/>
                <a:ext cx="1405800" cy="12686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1268640"/>
                  <a:gd name="textAreaBottom" fmla="*/ 1268640 h 1268640"/>
                </a:gdLst>
                <a:ahLst/>
                <a:rect l="textAreaLeft" t="textAreaTop" r="textAreaRight" b="textAreaBottom"/>
                <a:pathLst>
                  <a:path w="1015" h="862">
                    <a:moveTo>
                      <a:pt x="807" y="862"/>
                    </a:moveTo>
                    <a:lnTo>
                      <a:pt x="786" y="853"/>
                    </a:lnTo>
                    <a:lnTo>
                      <a:pt x="769" y="845"/>
                    </a:lnTo>
                    <a:lnTo>
                      <a:pt x="751" y="837"/>
                    </a:lnTo>
                    <a:lnTo>
                      <a:pt x="734" y="829"/>
                    </a:lnTo>
                    <a:lnTo>
                      <a:pt x="716" y="819"/>
                    </a:lnTo>
                    <a:lnTo>
                      <a:pt x="697" y="810"/>
                    </a:lnTo>
                    <a:lnTo>
                      <a:pt x="680" y="799"/>
                    </a:lnTo>
                    <a:lnTo>
                      <a:pt x="662" y="790"/>
                    </a:lnTo>
                    <a:lnTo>
                      <a:pt x="641" y="777"/>
                    </a:lnTo>
                    <a:lnTo>
                      <a:pt x="619" y="765"/>
                    </a:lnTo>
                    <a:lnTo>
                      <a:pt x="602" y="753"/>
                    </a:lnTo>
                    <a:lnTo>
                      <a:pt x="585" y="740"/>
                    </a:lnTo>
                    <a:lnTo>
                      <a:pt x="566" y="727"/>
                    </a:lnTo>
                    <a:lnTo>
                      <a:pt x="545" y="713"/>
                    </a:lnTo>
                    <a:lnTo>
                      <a:pt x="527" y="699"/>
                    </a:lnTo>
                    <a:lnTo>
                      <a:pt x="507" y="684"/>
                    </a:lnTo>
                    <a:lnTo>
                      <a:pt x="491" y="672"/>
                    </a:lnTo>
                    <a:lnTo>
                      <a:pt x="469" y="653"/>
                    </a:lnTo>
                    <a:lnTo>
                      <a:pt x="451" y="638"/>
                    </a:lnTo>
                    <a:lnTo>
                      <a:pt x="435" y="623"/>
                    </a:lnTo>
                    <a:lnTo>
                      <a:pt x="417" y="605"/>
                    </a:lnTo>
                    <a:lnTo>
                      <a:pt x="404" y="592"/>
                    </a:lnTo>
                    <a:lnTo>
                      <a:pt x="388" y="576"/>
                    </a:lnTo>
                    <a:lnTo>
                      <a:pt x="373" y="560"/>
                    </a:lnTo>
                    <a:lnTo>
                      <a:pt x="356" y="540"/>
                    </a:lnTo>
                    <a:lnTo>
                      <a:pt x="340" y="524"/>
                    </a:lnTo>
                    <a:lnTo>
                      <a:pt x="324" y="505"/>
                    </a:lnTo>
                    <a:lnTo>
                      <a:pt x="306" y="483"/>
                    </a:lnTo>
                    <a:lnTo>
                      <a:pt x="291" y="462"/>
                    </a:lnTo>
                    <a:lnTo>
                      <a:pt x="274" y="440"/>
                    </a:lnTo>
                    <a:lnTo>
                      <a:pt x="258" y="418"/>
                    </a:lnTo>
                    <a:lnTo>
                      <a:pt x="244" y="395"/>
                    </a:lnTo>
                    <a:lnTo>
                      <a:pt x="228" y="370"/>
                    </a:lnTo>
                    <a:lnTo>
                      <a:pt x="218" y="349"/>
                    </a:lnTo>
                    <a:lnTo>
                      <a:pt x="204" y="330"/>
                    </a:lnTo>
                    <a:lnTo>
                      <a:pt x="194" y="307"/>
                    </a:lnTo>
                    <a:lnTo>
                      <a:pt x="0" y="389"/>
                    </a:lnTo>
                    <a:lnTo>
                      <a:pt x="319" y="0"/>
                    </a:lnTo>
                    <a:lnTo>
                      <a:pt x="859" y="42"/>
                    </a:lnTo>
                    <a:lnTo>
                      <a:pt x="641" y="130"/>
                    </a:lnTo>
                    <a:lnTo>
                      <a:pt x="656" y="154"/>
                    </a:lnTo>
                    <a:lnTo>
                      <a:pt x="671" y="180"/>
                    </a:lnTo>
                    <a:lnTo>
                      <a:pt x="691" y="207"/>
                    </a:lnTo>
                    <a:lnTo>
                      <a:pt x="713" y="238"/>
                    </a:lnTo>
                    <a:lnTo>
                      <a:pt x="733" y="261"/>
                    </a:lnTo>
                    <a:lnTo>
                      <a:pt x="755" y="284"/>
                    </a:lnTo>
                    <a:lnTo>
                      <a:pt x="776" y="307"/>
                    </a:lnTo>
                    <a:lnTo>
                      <a:pt x="798" y="327"/>
                    </a:lnTo>
                    <a:lnTo>
                      <a:pt x="821" y="346"/>
                    </a:lnTo>
                    <a:lnTo>
                      <a:pt x="846" y="367"/>
                    </a:lnTo>
                    <a:lnTo>
                      <a:pt x="871" y="384"/>
                    </a:lnTo>
                    <a:lnTo>
                      <a:pt x="894" y="402"/>
                    </a:lnTo>
                    <a:lnTo>
                      <a:pt x="918" y="417"/>
                    </a:lnTo>
                    <a:lnTo>
                      <a:pt x="946" y="433"/>
                    </a:lnTo>
                    <a:lnTo>
                      <a:pt x="975" y="448"/>
                    </a:lnTo>
                    <a:lnTo>
                      <a:pt x="996" y="456"/>
                    </a:lnTo>
                    <a:lnTo>
                      <a:pt x="1015" y="467"/>
                    </a:lnTo>
                    <a:lnTo>
                      <a:pt x="807" y="862"/>
                    </a:lnTo>
                    <a:close/>
                  </a:path>
                </a:pathLst>
              </a:custGeom>
              <a:solidFill>
                <a:srgbClr val="ffff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6145560" y="4583520"/>
                <a:ext cx="1527120" cy="1156680"/>
              </a:xfrm>
              <a:custGeom>
                <a:avLst/>
                <a:gdLst>
                  <a:gd name="textAreaLeft" fmla="*/ 0 w 1527120"/>
                  <a:gd name="textAreaRight" fmla="*/ 1527480 w 1527120"/>
                  <a:gd name="textAreaTop" fmla="*/ 0 h 1156680"/>
                  <a:gd name="textAreaBottom" fmla="*/ 1157040 h 1156680"/>
                </a:gdLst>
                <a:ahLst/>
                <a:rect l="textAreaLeft" t="textAreaTop" r="textAreaRight" b="textAreaBottom"/>
                <a:pathLst>
                  <a:path w="1103" h="787">
                    <a:moveTo>
                      <a:pt x="442" y="0"/>
                    </a:moveTo>
                    <a:lnTo>
                      <a:pt x="350" y="203"/>
                    </a:lnTo>
                    <a:lnTo>
                      <a:pt x="372" y="211"/>
                    </a:lnTo>
                    <a:lnTo>
                      <a:pt x="391" y="216"/>
                    </a:lnTo>
                    <a:lnTo>
                      <a:pt x="413" y="222"/>
                    </a:lnTo>
                    <a:lnTo>
                      <a:pt x="438" y="228"/>
                    </a:lnTo>
                    <a:lnTo>
                      <a:pt x="467" y="232"/>
                    </a:lnTo>
                    <a:lnTo>
                      <a:pt x="493" y="236"/>
                    </a:lnTo>
                    <a:lnTo>
                      <a:pt x="519" y="239"/>
                    </a:lnTo>
                    <a:lnTo>
                      <a:pt x="549" y="243"/>
                    </a:lnTo>
                    <a:lnTo>
                      <a:pt x="580" y="245"/>
                    </a:lnTo>
                    <a:lnTo>
                      <a:pt x="636" y="245"/>
                    </a:lnTo>
                    <a:lnTo>
                      <a:pt x="666" y="244"/>
                    </a:lnTo>
                    <a:lnTo>
                      <a:pt x="692" y="242"/>
                    </a:lnTo>
                    <a:lnTo>
                      <a:pt x="720" y="238"/>
                    </a:lnTo>
                    <a:lnTo>
                      <a:pt x="749" y="233"/>
                    </a:lnTo>
                    <a:lnTo>
                      <a:pt x="773" y="230"/>
                    </a:lnTo>
                    <a:lnTo>
                      <a:pt x="805" y="223"/>
                    </a:lnTo>
                    <a:lnTo>
                      <a:pt x="835" y="215"/>
                    </a:lnTo>
                    <a:lnTo>
                      <a:pt x="1103" y="595"/>
                    </a:lnTo>
                    <a:lnTo>
                      <a:pt x="1077" y="604"/>
                    </a:lnTo>
                    <a:lnTo>
                      <a:pt x="1052" y="613"/>
                    </a:lnTo>
                    <a:lnTo>
                      <a:pt x="1030" y="620"/>
                    </a:lnTo>
                    <a:lnTo>
                      <a:pt x="1007" y="627"/>
                    </a:lnTo>
                    <a:lnTo>
                      <a:pt x="985" y="632"/>
                    </a:lnTo>
                    <a:lnTo>
                      <a:pt x="961" y="639"/>
                    </a:lnTo>
                    <a:lnTo>
                      <a:pt x="940" y="644"/>
                    </a:lnTo>
                    <a:lnTo>
                      <a:pt x="918" y="649"/>
                    </a:lnTo>
                    <a:lnTo>
                      <a:pt x="896" y="653"/>
                    </a:lnTo>
                    <a:lnTo>
                      <a:pt x="871" y="659"/>
                    </a:lnTo>
                    <a:lnTo>
                      <a:pt x="842" y="663"/>
                    </a:lnTo>
                    <a:lnTo>
                      <a:pt x="818" y="667"/>
                    </a:lnTo>
                    <a:lnTo>
                      <a:pt x="792" y="672"/>
                    </a:lnTo>
                    <a:lnTo>
                      <a:pt x="764" y="675"/>
                    </a:lnTo>
                    <a:lnTo>
                      <a:pt x="736" y="678"/>
                    </a:lnTo>
                    <a:lnTo>
                      <a:pt x="704" y="679"/>
                    </a:lnTo>
                    <a:lnTo>
                      <a:pt x="674" y="681"/>
                    </a:lnTo>
                    <a:lnTo>
                      <a:pt x="646" y="681"/>
                    </a:lnTo>
                    <a:lnTo>
                      <a:pt x="614" y="681"/>
                    </a:lnTo>
                    <a:lnTo>
                      <a:pt x="575" y="681"/>
                    </a:lnTo>
                    <a:lnTo>
                      <a:pt x="540" y="680"/>
                    </a:lnTo>
                    <a:lnTo>
                      <a:pt x="515" y="679"/>
                    </a:lnTo>
                    <a:lnTo>
                      <a:pt x="488" y="678"/>
                    </a:lnTo>
                    <a:lnTo>
                      <a:pt x="459" y="675"/>
                    </a:lnTo>
                    <a:lnTo>
                      <a:pt x="426" y="671"/>
                    </a:lnTo>
                    <a:lnTo>
                      <a:pt x="399" y="666"/>
                    </a:lnTo>
                    <a:lnTo>
                      <a:pt x="372" y="663"/>
                    </a:lnTo>
                    <a:lnTo>
                      <a:pt x="338" y="656"/>
                    </a:lnTo>
                    <a:lnTo>
                      <a:pt x="313" y="650"/>
                    </a:lnTo>
                    <a:lnTo>
                      <a:pt x="282" y="644"/>
                    </a:lnTo>
                    <a:lnTo>
                      <a:pt x="254" y="637"/>
                    </a:lnTo>
                    <a:lnTo>
                      <a:pt x="227" y="630"/>
                    </a:lnTo>
                    <a:lnTo>
                      <a:pt x="198" y="621"/>
                    </a:lnTo>
                    <a:lnTo>
                      <a:pt x="163" y="609"/>
                    </a:lnTo>
                    <a:lnTo>
                      <a:pt x="80" y="787"/>
                    </a:lnTo>
                    <a:lnTo>
                      <a:pt x="0" y="282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cc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7246080" y="4356360"/>
                <a:ext cx="1328400" cy="1257120"/>
              </a:xfrm>
              <a:custGeom>
                <a:avLst/>
                <a:gdLst>
                  <a:gd name="textAreaLeft" fmla="*/ 0 w 1328400"/>
                  <a:gd name="textAreaRight" fmla="*/ 1328760 w 132840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959" h="855">
                    <a:moveTo>
                      <a:pt x="959" y="187"/>
                    </a:moveTo>
                    <a:lnTo>
                      <a:pt x="947" y="206"/>
                    </a:lnTo>
                    <a:lnTo>
                      <a:pt x="939" y="221"/>
                    </a:lnTo>
                    <a:lnTo>
                      <a:pt x="929" y="237"/>
                    </a:lnTo>
                    <a:lnTo>
                      <a:pt x="921" y="253"/>
                    </a:lnTo>
                    <a:lnTo>
                      <a:pt x="911" y="269"/>
                    </a:lnTo>
                    <a:lnTo>
                      <a:pt x="899" y="285"/>
                    </a:lnTo>
                    <a:lnTo>
                      <a:pt x="888" y="300"/>
                    </a:lnTo>
                    <a:lnTo>
                      <a:pt x="877" y="317"/>
                    </a:lnTo>
                    <a:lnTo>
                      <a:pt x="862" y="335"/>
                    </a:lnTo>
                    <a:lnTo>
                      <a:pt x="848" y="354"/>
                    </a:lnTo>
                    <a:lnTo>
                      <a:pt x="836" y="369"/>
                    </a:lnTo>
                    <a:lnTo>
                      <a:pt x="822" y="384"/>
                    </a:lnTo>
                    <a:lnTo>
                      <a:pt x="806" y="403"/>
                    </a:lnTo>
                    <a:lnTo>
                      <a:pt x="791" y="421"/>
                    </a:lnTo>
                    <a:lnTo>
                      <a:pt x="775" y="437"/>
                    </a:lnTo>
                    <a:lnTo>
                      <a:pt x="758" y="455"/>
                    </a:lnTo>
                    <a:lnTo>
                      <a:pt x="744" y="469"/>
                    </a:lnTo>
                    <a:lnTo>
                      <a:pt x="723" y="489"/>
                    </a:lnTo>
                    <a:lnTo>
                      <a:pt x="706" y="505"/>
                    </a:lnTo>
                    <a:lnTo>
                      <a:pt x="689" y="519"/>
                    </a:lnTo>
                    <a:lnTo>
                      <a:pt x="669" y="535"/>
                    </a:lnTo>
                    <a:lnTo>
                      <a:pt x="655" y="547"/>
                    </a:lnTo>
                    <a:lnTo>
                      <a:pt x="637" y="561"/>
                    </a:lnTo>
                    <a:lnTo>
                      <a:pt x="619" y="575"/>
                    </a:lnTo>
                    <a:lnTo>
                      <a:pt x="598" y="590"/>
                    </a:lnTo>
                    <a:lnTo>
                      <a:pt x="579" y="603"/>
                    </a:lnTo>
                    <a:lnTo>
                      <a:pt x="559" y="617"/>
                    </a:lnTo>
                    <a:lnTo>
                      <a:pt x="532" y="633"/>
                    </a:lnTo>
                    <a:lnTo>
                      <a:pt x="510" y="647"/>
                    </a:lnTo>
                    <a:lnTo>
                      <a:pt x="486" y="662"/>
                    </a:lnTo>
                    <a:lnTo>
                      <a:pt x="461" y="677"/>
                    </a:lnTo>
                    <a:lnTo>
                      <a:pt x="435" y="690"/>
                    </a:lnTo>
                    <a:lnTo>
                      <a:pt x="568" y="855"/>
                    </a:lnTo>
                    <a:lnTo>
                      <a:pt x="41" y="643"/>
                    </a:lnTo>
                    <a:lnTo>
                      <a:pt x="0" y="226"/>
                    </a:lnTo>
                    <a:lnTo>
                      <a:pt x="111" y="344"/>
                    </a:lnTo>
                    <a:lnTo>
                      <a:pt x="136" y="334"/>
                    </a:lnTo>
                    <a:lnTo>
                      <a:pt x="161" y="322"/>
                    </a:lnTo>
                    <a:lnTo>
                      <a:pt x="193" y="307"/>
                    </a:lnTo>
                    <a:lnTo>
                      <a:pt x="225" y="291"/>
                    </a:lnTo>
                    <a:lnTo>
                      <a:pt x="257" y="271"/>
                    </a:lnTo>
                    <a:lnTo>
                      <a:pt x="285" y="254"/>
                    </a:lnTo>
                    <a:lnTo>
                      <a:pt x="311" y="234"/>
                    </a:lnTo>
                    <a:lnTo>
                      <a:pt x="337" y="214"/>
                    </a:lnTo>
                    <a:lnTo>
                      <a:pt x="358" y="196"/>
                    </a:lnTo>
                    <a:lnTo>
                      <a:pt x="380" y="175"/>
                    </a:lnTo>
                    <a:lnTo>
                      <a:pt x="403" y="151"/>
                    </a:lnTo>
                    <a:lnTo>
                      <a:pt x="423" y="130"/>
                    </a:lnTo>
                    <a:lnTo>
                      <a:pt x="443" y="108"/>
                    </a:lnTo>
                    <a:lnTo>
                      <a:pt x="459" y="89"/>
                    </a:lnTo>
                    <a:lnTo>
                      <a:pt x="478" y="62"/>
                    </a:lnTo>
                    <a:lnTo>
                      <a:pt x="495" y="37"/>
                    </a:lnTo>
                    <a:lnTo>
                      <a:pt x="504" y="19"/>
                    </a:lnTo>
                    <a:lnTo>
                      <a:pt x="514" y="0"/>
                    </a:lnTo>
                    <a:lnTo>
                      <a:pt x="959" y="187"/>
                    </a:lnTo>
                    <a:close/>
                  </a:path>
                </a:pathLst>
              </a:custGeom>
              <a:solidFill>
                <a:srgbClr val="ccff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4" name="Freeform 62"/>
              <p:cNvSpPr/>
              <p:nvPr/>
            </p:nvSpPr>
            <p:spPr>
              <a:xfrm>
                <a:off x="7691760" y="3232800"/>
                <a:ext cx="1223280" cy="1461960"/>
              </a:xfrm>
              <a:custGeom>
                <a:avLst/>
                <a:gdLst>
                  <a:gd name="textAreaLeft" fmla="*/ 0 w 1223280"/>
                  <a:gd name="textAreaRight" fmla="*/ 1223640 w 1223280"/>
                  <a:gd name="textAreaTop" fmla="*/ 0 h 1461960"/>
                  <a:gd name="textAreaBottom" fmla="*/ 1461960 h 1461960"/>
                </a:gdLst>
                <a:ahLst/>
                <a:rect l="textAreaLeft" t="textAreaTop" r="textAreaRight" b="textAreaBottom"/>
                <a:pathLst>
                  <a:path w="884" h="994">
                    <a:moveTo>
                      <a:pt x="0" y="632"/>
                    </a:moveTo>
                    <a:lnTo>
                      <a:pt x="221" y="706"/>
                    </a:lnTo>
                    <a:lnTo>
                      <a:pt x="232" y="682"/>
                    </a:lnTo>
                    <a:lnTo>
                      <a:pt x="241" y="657"/>
                    </a:lnTo>
                    <a:lnTo>
                      <a:pt x="248" y="635"/>
                    </a:lnTo>
                    <a:lnTo>
                      <a:pt x="254" y="615"/>
                    </a:lnTo>
                    <a:lnTo>
                      <a:pt x="261" y="593"/>
                    </a:lnTo>
                    <a:lnTo>
                      <a:pt x="266" y="568"/>
                    </a:lnTo>
                    <a:lnTo>
                      <a:pt x="270" y="544"/>
                    </a:lnTo>
                    <a:lnTo>
                      <a:pt x="274" y="521"/>
                    </a:lnTo>
                    <a:lnTo>
                      <a:pt x="278" y="494"/>
                    </a:lnTo>
                    <a:lnTo>
                      <a:pt x="279" y="466"/>
                    </a:lnTo>
                    <a:lnTo>
                      <a:pt x="279" y="416"/>
                    </a:lnTo>
                    <a:lnTo>
                      <a:pt x="278" y="390"/>
                    </a:lnTo>
                    <a:lnTo>
                      <a:pt x="277" y="366"/>
                    </a:lnTo>
                    <a:lnTo>
                      <a:pt x="273" y="342"/>
                    </a:lnTo>
                    <a:lnTo>
                      <a:pt x="268" y="316"/>
                    </a:lnTo>
                    <a:lnTo>
                      <a:pt x="262" y="294"/>
                    </a:lnTo>
                    <a:lnTo>
                      <a:pt x="256" y="266"/>
                    </a:lnTo>
                    <a:lnTo>
                      <a:pt x="247" y="240"/>
                    </a:lnTo>
                    <a:lnTo>
                      <a:pt x="673" y="0"/>
                    </a:lnTo>
                    <a:lnTo>
                      <a:pt x="683" y="23"/>
                    </a:lnTo>
                    <a:lnTo>
                      <a:pt x="693" y="45"/>
                    </a:lnTo>
                    <a:lnTo>
                      <a:pt x="700" y="65"/>
                    </a:lnTo>
                    <a:lnTo>
                      <a:pt x="708" y="86"/>
                    </a:lnTo>
                    <a:lnTo>
                      <a:pt x="715" y="106"/>
                    </a:lnTo>
                    <a:lnTo>
                      <a:pt x="723" y="127"/>
                    </a:lnTo>
                    <a:lnTo>
                      <a:pt x="728" y="145"/>
                    </a:lnTo>
                    <a:lnTo>
                      <a:pt x="733" y="165"/>
                    </a:lnTo>
                    <a:lnTo>
                      <a:pt x="738" y="185"/>
                    </a:lnTo>
                    <a:lnTo>
                      <a:pt x="745" y="207"/>
                    </a:lnTo>
                    <a:lnTo>
                      <a:pt x="749" y="233"/>
                    </a:lnTo>
                    <a:lnTo>
                      <a:pt x="754" y="255"/>
                    </a:lnTo>
                    <a:lnTo>
                      <a:pt x="759" y="278"/>
                    </a:lnTo>
                    <a:lnTo>
                      <a:pt x="763" y="302"/>
                    </a:lnTo>
                    <a:lnTo>
                      <a:pt x="764" y="328"/>
                    </a:lnTo>
                    <a:lnTo>
                      <a:pt x="767" y="356"/>
                    </a:lnTo>
                    <a:lnTo>
                      <a:pt x="770" y="383"/>
                    </a:lnTo>
                    <a:lnTo>
                      <a:pt x="770" y="408"/>
                    </a:lnTo>
                    <a:lnTo>
                      <a:pt x="770" y="436"/>
                    </a:lnTo>
                    <a:lnTo>
                      <a:pt x="770" y="471"/>
                    </a:lnTo>
                    <a:lnTo>
                      <a:pt x="768" y="502"/>
                    </a:lnTo>
                    <a:lnTo>
                      <a:pt x="767" y="525"/>
                    </a:lnTo>
                    <a:lnTo>
                      <a:pt x="764" y="549"/>
                    </a:lnTo>
                    <a:lnTo>
                      <a:pt x="763" y="575"/>
                    </a:lnTo>
                    <a:lnTo>
                      <a:pt x="758" y="604"/>
                    </a:lnTo>
                    <a:lnTo>
                      <a:pt x="753" y="628"/>
                    </a:lnTo>
                    <a:lnTo>
                      <a:pt x="747" y="653"/>
                    </a:lnTo>
                    <a:lnTo>
                      <a:pt x="741" y="683"/>
                    </a:lnTo>
                    <a:lnTo>
                      <a:pt x="734" y="705"/>
                    </a:lnTo>
                    <a:lnTo>
                      <a:pt x="728" y="733"/>
                    </a:lnTo>
                    <a:lnTo>
                      <a:pt x="720" y="757"/>
                    </a:lnTo>
                    <a:lnTo>
                      <a:pt x="711" y="782"/>
                    </a:lnTo>
                    <a:lnTo>
                      <a:pt x="702" y="807"/>
                    </a:lnTo>
                    <a:lnTo>
                      <a:pt x="690" y="839"/>
                    </a:lnTo>
                    <a:lnTo>
                      <a:pt x="677" y="870"/>
                    </a:lnTo>
                    <a:lnTo>
                      <a:pt x="884" y="946"/>
                    </a:lnTo>
                    <a:lnTo>
                      <a:pt x="363" y="994"/>
                    </a:lnTo>
                    <a:lnTo>
                      <a:pt x="0" y="632"/>
                    </a:lnTo>
                    <a:close/>
                  </a:path>
                </a:pathLst>
              </a:custGeom>
              <a:solidFill>
                <a:srgbClr val="b2b2b2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5" name="Freeform 63"/>
              <p:cNvSpPr/>
              <p:nvPr/>
            </p:nvSpPr>
            <p:spPr>
              <a:xfrm>
                <a:off x="7467120" y="2385000"/>
                <a:ext cx="1433160" cy="1290960"/>
              </a:xfrm>
              <a:custGeom>
                <a:avLst/>
                <a:gdLst>
                  <a:gd name="textAreaLeft" fmla="*/ 0 w 1433160"/>
                  <a:gd name="textAreaRight" fmla="*/ 1433520 w 1433160"/>
                  <a:gd name="textAreaTop" fmla="*/ 0 h 1290960"/>
                  <a:gd name="textAreaBottom" fmla="*/ 1291320 h 1290960"/>
                </a:gdLst>
                <a:ahLst/>
                <a:rect l="textAreaLeft" t="textAreaTop" r="textAreaRight" b="textAreaBottom"/>
                <a:pathLst>
                  <a:path w="1034" h="878">
                    <a:moveTo>
                      <a:pt x="209" y="0"/>
                    </a:moveTo>
                    <a:lnTo>
                      <a:pt x="230" y="10"/>
                    </a:lnTo>
                    <a:lnTo>
                      <a:pt x="247" y="18"/>
                    </a:lnTo>
                    <a:lnTo>
                      <a:pt x="266" y="26"/>
                    </a:lnTo>
                    <a:lnTo>
                      <a:pt x="283" y="34"/>
                    </a:lnTo>
                    <a:lnTo>
                      <a:pt x="301" y="43"/>
                    </a:lnTo>
                    <a:lnTo>
                      <a:pt x="318" y="54"/>
                    </a:lnTo>
                    <a:lnTo>
                      <a:pt x="335" y="63"/>
                    </a:lnTo>
                    <a:lnTo>
                      <a:pt x="353" y="72"/>
                    </a:lnTo>
                    <a:lnTo>
                      <a:pt x="374" y="85"/>
                    </a:lnTo>
                    <a:lnTo>
                      <a:pt x="396" y="99"/>
                    </a:lnTo>
                    <a:lnTo>
                      <a:pt x="413" y="110"/>
                    </a:lnTo>
                    <a:lnTo>
                      <a:pt x="430" y="122"/>
                    </a:lnTo>
                    <a:lnTo>
                      <a:pt x="451" y="135"/>
                    </a:lnTo>
                    <a:lnTo>
                      <a:pt x="472" y="149"/>
                    </a:lnTo>
                    <a:lnTo>
                      <a:pt x="490" y="163"/>
                    </a:lnTo>
                    <a:lnTo>
                      <a:pt x="508" y="178"/>
                    </a:lnTo>
                    <a:lnTo>
                      <a:pt x="525" y="192"/>
                    </a:lnTo>
                    <a:lnTo>
                      <a:pt x="546" y="210"/>
                    </a:lnTo>
                    <a:lnTo>
                      <a:pt x="564" y="225"/>
                    </a:lnTo>
                    <a:lnTo>
                      <a:pt x="580" y="240"/>
                    </a:lnTo>
                    <a:lnTo>
                      <a:pt x="598" y="257"/>
                    </a:lnTo>
                    <a:lnTo>
                      <a:pt x="612" y="270"/>
                    </a:lnTo>
                    <a:lnTo>
                      <a:pt x="628" y="286"/>
                    </a:lnTo>
                    <a:lnTo>
                      <a:pt x="644" y="303"/>
                    </a:lnTo>
                    <a:lnTo>
                      <a:pt x="661" y="322"/>
                    </a:lnTo>
                    <a:lnTo>
                      <a:pt x="675" y="339"/>
                    </a:lnTo>
                    <a:lnTo>
                      <a:pt x="691" y="357"/>
                    </a:lnTo>
                    <a:lnTo>
                      <a:pt x="709" y="379"/>
                    </a:lnTo>
                    <a:lnTo>
                      <a:pt x="725" y="400"/>
                    </a:lnTo>
                    <a:lnTo>
                      <a:pt x="741" y="422"/>
                    </a:lnTo>
                    <a:lnTo>
                      <a:pt x="757" y="445"/>
                    </a:lnTo>
                    <a:lnTo>
                      <a:pt x="771" y="468"/>
                    </a:lnTo>
                    <a:lnTo>
                      <a:pt x="787" y="492"/>
                    </a:lnTo>
                    <a:lnTo>
                      <a:pt x="799" y="513"/>
                    </a:lnTo>
                    <a:lnTo>
                      <a:pt x="811" y="533"/>
                    </a:lnTo>
                    <a:lnTo>
                      <a:pt x="821" y="556"/>
                    </a:lnTo>
                    <a:lnTo>
                      <a:pt x="829" y="572"/>
                    </a:lnTo>
                    <a:lnTo>
                      <a:pt x="1034" y="500"/>
                    </a:lnTo>
                    <a:lnTo>
                      <a:pt x="714" y="878"/>
                    </a:lnTo>
                    <a:lnTo>
                      <a:pt x="150" y="817"/>
                    </a:lnTo>
                    <a:lnTo>
                      <a:pt x="374" y="735"/>
                    </a:lnTo>
                    <a:lnTo>
                      <a:pt x="359" y="709"/>
                    </a:lnTo>
                    <a:lnTo>
                      <a:pt x="344" y="683"/>
                    </a:lnTo>
                    <a:lnTo>
                      <a:pt x="324" y="655"/>
                    </a:lnTo>
                    <a:lnTo>
                      <a:pt x="302" y="626"/>
                    </a:lnTo>
                    <a:lnTo>
                      <a:pt x="283" y="602"/>
                    </a:lnTo>
                    <a:lnTo>
                      <a:pt x="262" y="578"/>
                    </a:lnTo>
                    <a:lnTo>
                      <a:pt x="239" y="555"/>
                    </a:lnTo>
                    <a:lnTo>
                      <a:pt x="217" y="535"/>
                    </a:lnTo>
                    <a:lnTo>
                      <a:pt x="195" y="517"/>
                    </a:lnTo>
                    <a:lnTo>
                      <a:pt x="169" y="496"/>
                    </a:lnTo>
                    <a:lnTo>
                      <a:pt x="144" y="478"/>
                    </a:lnTo>
                    <a:lnTo>
                      <a:pt x="121" y="461"/>
                    </a:lnTo>
                    <a:lnTo>
                      <a:pt x="97" y="446"/>
                    </a:lnTo>
                    <a:lnTo>
                      <a:pt x="69" y="429"/>
                    </a:lnTo>
                    <a:lnTo>
                      <a:pt x="40" y="414"/>
                    </a:lnTo>
                    <a:lnTo>
                      <a:pt x="20" y="406"/>
                    </a:lnTo>
                    <a:lnTo>
                      <a:pt x="0" y="396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cccc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</p:grpSp>
      </p:grpSp>
    </p:spTree>
  </p:cSld>
  <p:transition spd="slow" advTm="60000"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basic process step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2590920" y="1676520"/>
            <a:ext cx="4572000" cy="5331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1905120" y="251460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2590920" y="33526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1905120" y="4191120"/>
            <a:ext cx="4572000" cy="5331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2590920" y="502920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‘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Risk’ is dynamic and subject to constant change, so the process includes </a:t>
            </a:r>
            <a:r>
              <a:rPr b="1" lang="en-US" sz="2600" spc="-1" strike="noStrike" u="sng">
                <a:solidFill>
                  <a:srgbClr val="990033"/>
                </a:solidFill>
                <a:uFillTx/>
                <a:latin typeface="Comic Sans MS"/>
              </a:rPr>
              <a:t>continuing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828800" y="4724280"/>
            <a:ext cx="5486400" cy="6858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ion &amp; consultation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752480" y="3048120"/>
            <a:ext cx="5486400" cy="6858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ing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191120" y="39625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and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37" name="Freeform 17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144" name="Rectangle 13"/>
          <p:cNvSpPr/>
          <p:nvPr/>
        </p:nvSpPr>
        <p:spPr>
          <a:xfrm>
            <a:off x="1143000" y="2362320"/>
            <a:ext cx="6934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strategic and organisational context in which risk management will take plac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For example, the nature of your business, the risks inherent in your business and your prioriti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066680" y="2286000"/>
            <a:ext cx="7010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efining types of risk, for instance, ‘Strategic’ risks to the goals and objectives of the organisatio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dentifying the stakeholders, (i.e.,who is involved or affected).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Past events, future development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56" name="Freeform 25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2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143000" y="2438280"/>
            <a:ext cx="6858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How likely is the risk event to happen?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(Probability and frequency?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What would be the impact, cost or consequences of that event occurring?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(Economic, political, social?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71" name="Group 22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72" name="Freeform 23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8" name="Freeform 29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209680" y="1523880"/>
            <a:ext cx="4572000" cy="5335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143000" y="2438280"/>
            <a:ext cx="6629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ank the risks according to management priorities, by risk category and rated by likelihood and possible cost or consequenc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termine inherent levels of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88" name="Freeform 22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2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066680" y="23623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evelop and implement a plan with specific counter-measures to address the identified risk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Consider: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Priorities (Strategic and operational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sources (human, financial and technical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acceptance, (i.e., low risks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202" name="Freeform 23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6" name="Freeform 27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7" name="Freeform 28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8" name="Freeform 29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3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500"/>
                            </p:stCondLst>
                            <p:childTnLst>
                              <p:par>
                                <p:cTn id="4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38080" y="220968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ocument your risk management plan and describe the reasons behind selecting the risk and for the treatment chose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cord allocated responsibilities, monitoring or evaluation processes, and assumptions on residual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676520" y="4419720"/>
            <a:ext cx="6933960" cy="99036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isk Management policies and decis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must be regularly reviewed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85800" y="2286000"/>
            <a:ext cx="78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n identifying, prioritising and treating risks, organisations make assumptions and decisions based on situations that are subject to change, (e.g., the business environment, trading patterns, or government policies)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25" name="Group 21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226" name="Freeform 22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498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7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95280" y="2819520"/>
            <a:ext cx="609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About …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6" name="Picture 10" descr="G:\Pics\unctadb.gif"/>
          <p:cNvPicPr/>
          <p:nvPr/>
        </p:nvPicPr>
        <p:blipFill>
          <a:blip r:embed="rId1"/>
          <a:stretch/>
        </p:blipFill>
        <p:spPr>
          <a:xfrm>
            <a:off x="660240" y="914400"/>
            <a:ext cx="52416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1295280" y="3505320"/>
            <a:ext cx="6629400" cy="1523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endParaRPr b="1" lang="en-US" sz="4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14400" y="2209680"/>
            <a:ext cx="7315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Managers must monitor activities and processes to determine the accuracy of planning assumptions and the effectiveness of the measures taken to treat the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ethods can include data evaluation,  audit, compliance measurement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590920" y="1676520"/>
            <a:ext cx="4572000" cy="5331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905120" y="251460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590920" y="33526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905120" y="4191120"/>
            <a:ext cx="4572000" cy="5331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590920" y="502920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9" name="Rectangle 14"/>
          <p:cNvSpPr/>
          <p:nvPr/>
        </p:nvSpPr>
        <p:spPr>
          <a:xfrm rot="16491000">
            <a:off x="-102600" y="3455640"/>
            <a:ext cx="4511520" cy="4953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ing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0" name="Rectangle 15"/>
          <p:cNvSpPr/>
          <p:nvPr/>
        </p:nvSpPr>
        <p:spPr>
          <a:xfrm rot="16884600">
            <a:off x="4304880" y="3085920"/>
            <a:ext cx="548640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ion &amp; consultation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51" name="Group 16"/>
          <p:cNvGrpSpPr/>
          <p:nvPr/>
        </p:nvGrpSpPr>
        <p:grpSpPr>
          <a:xfrm>
            <a:off x="1981080" y="1447920"/>
            <a:ext cx="5257080" cy="4571640"/>
            <a:chOff x="1981080" y="1447920"/>
            <a:chExt cx="5257080" cy="4571640"/>
          </a:xfrm>
        </p:grpSpPr>
        <p:sp>
          <p:nvSpPr>
            <p:cNvPr id="252" name="Freeform 17"/>
            <p:cNvSpPr/>
            <p:nvPr/>
          </p:nvSpPr>
          <p:spPr>
            <a:xfrm>
              <a:off x="2454120" y="1447920"/>
              <a:ext cx="1901880" cy="1683360"/>
            </a:xfrm>
            <a:custGeom>
              <a:avLst/>
              <a:gdLst>
                <a:gd name="textAreaLeft" fmla="*/ 0 w 1901880"/>
                <a:gd name="textAreaRight" fmla="*/ 1902240 w 1901880"/>
                <a:gd name="textAreaTop" fmla="*/ 0 h 1683360"/>
                <a:gd name="textAreaBottom" fmla="*/ 1683720 h 16833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1981080" y="2635560"/>
              <a:ext cx="1677600" cy="1874880"/>
            </a:xfrm>
            <a:custGeom>
              <a:avLst/>
              <a:gdLst>
                <a:gd name="textAreaLeft" fmla="*/ 0 w 1677600"/>
                <a:gd name="textAreaRight" fmla="*/ 1677960 w 16776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2057760" y="3988800"/>
              <a:ext cx="1901880" cy="1608120"/>
            </a:xfrm>
            <a:custGeom>
              <a:avLst/>
              <a:gdLst>
                <a:gd name="textAreaLeft" fmla="*/ 0 w 1901880"/>
                <a:gd name="textAreaRight" fmla="*/ 1902240 w 1901880"/>
                <a:gd name="textAreaTop" fmla="*/ 0 h 1608120"/>
                <a:gd name="textAreaBottom" fmla="*/ 1608480 h 1608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491640" y="4553280"/>
              <a:ext cx="2066040" cy="1466280"/>
            </a:xfrm>
            <a:custGeom>
              <a:avLst/>
              <a:gdLst>
                <a:gd name="textAreaLeft" fmla="*/ 0 w 2066040"/>
                <a:gd name="textAreaRight" fmla="*/ 2066400 w 2066040"/>
                <a:gd name="textAreaTop" fmla="*/ 0 h 1466280"/>
                <a:gd name="textAreaBottom" fmla="*/ 1466640 h 146628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4980240" y="4265280"/>
              <a:ext cx="1797480" cy="159372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5583240" y="2841120"/>
              <a:ext cx="1654920" cy="1853280"/>
            </a:xfrm>
            <a:custGeom>
              <a:avLst/>
              <a:gdLst>
                <a:gd name="textAreaLeft" fmla="*/ 0 w 1654920"/>
                <a:gd name="textAreaRight" fmla="*/ 1655280 w 1654920"/>
                <a:gd name="textAreaTop" fmla="*/ 0 h 1853280"/>
                <a:gd name="textAreaBottom" fmla="*/ 1853640 h 185328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5279400" y="1766520"/>
              <a:ext cx="1938960" cy="1636560"/>
            </a:xfrm>
            <a:custGeom>
              <a:avLst/>
              <a:gdLst>
                <a:gd name="textAreaLeft" fmla="*/ 0 w 1938960"/>
                <a:gd name="textAreaRight" fmla="*/ 1939320 w 1938960"/>
                <a:gd name="textAreaTop" fmla="*/ 0 h 1636560"/>
                <a:gd name="textAreaBottom" fmla="*/ 1636920 h 163656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5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0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8500"/>
                            </p:stCondLst>
                            <p:childTnLst>
                              <p:par>
                                <p:cTn id="582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8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3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ustoms administrations have turned increasingly to Risk Management as an effective means of meeting national object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dministrations provide facilitation while maintaining control over the international movement of goods and pers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Risk management helps in matching Customs priorities to resour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in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5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nternational Organisations encourage and support the adoption of modern Customs control techniques, using Risk Management principles., e.g.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TO/Kyoto Conven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EC Sub-Committee on Customs Proced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ransport Industry representative bod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4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Strategic: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 Risks to 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Customs goals and objectives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e.g.,prohibitions and 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estrictions, (social or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economic), health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evenue, environment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28600" y="2971800"/>
            <a:ext cx="3014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6" name="Freeform 12"/>
          <p:cNvSpPr/>
          <p:nvPr/>
        </p:nvSpPr>
        <p:spPr>
          <a:xfrm>
            <a:off x="243000" y="2989440"/>
            <a:ext cx="2604960" cy="283824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1641" h="1788">
                <a:moveTo>
                  <a:pt x="747" y="177"/>
                </a:moveTo>
                <a:lnTo>
                  <a:pt x="674" y="0"/>
                </a:lnTo>
                <a:lnTo>
                  <a:pt x="1641" y="272"/>
                </a:lnTo>
                <a:lnTo>
                  <a:pt x="1094" y="1022"/>
                </a:lnTo>
                <a:lnTo>
                  <a:pt x="1025" y="855"/>
                </a:lnTo>
                <a:lnTo>
                  <a:pt x="815" y="944"/>
                </a:lnTo>
                <a:lnTo>
                  <a:pt x="815" y="1788"/>
                </a:lnTo>
                <a:lnTo>
                  <a:pt x="0" y="1788"/>
                </a:lnTo>
                <a:lnTo>
                  <a:pt x="0" y="394"/>
                </a:lnTo>
                <a:lnTo>
                  <a:pt x="747" y="177"/>
                </a:lnTo>
                <a:close/>
              </a:path>
            </a:pathLst>
          </a:custGeom>
          <a:solidFill>
            <a:srgbClr val="ff505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7" name="Freeform 13"/>
          <p:cNvSpPr/>
          <p:nvPr/>
        </p:nvSpPr>
        <p:spPr>
          <a:xfrm>
            <a:off x="644400" y="3656160"/>
            <a:ext cx="2248200" cy="2481120"/>
          </a:xfrm>
          <a:custGeom>
            <a:avLst/>
            <a:gdLst>
              <a:gd name="textAreaLeft" fmla="*/ 0 w 2248200"/>
              <a:gd name="textAreaRight" fmla="*/ 2248560 w 2248200"/>
              <a:gd name="textAreaTop" fmla="*/ 0 h 2481120"/>
              <a:gd name="textAreaBottom" fmla="*/ 2481480 h 2481120"/>
            </a:gdLst>
            <a:ahLst/>
            <a:rect l="textAreaLeft" t="textAreaTop" r="textAreaRight" b="textAreaBottom"/>
            <a:pathLst>
              <a:path w="1416" h="1563">
                <a:moveTo>
                  <a:pt x="751" y="101"/>
                </a:moveTo>
                <a:lnTo>
                  <a:pt x="0" y="323"/>
                </a:lnTo>
                <a:lnTo>
                  <a:pt x="0" y="1563"/>
                </a:lnTo>
                <a:lnTo>
                  <a:pt x="618" y="1563"/>
                </a:lnTo>
                <a:lnTo>
                  <a:pt x="618" y="765"/>
                </a:lnTo>
                <a:lnTo>
                  <a:pt x="966" y="615"/>
                </a:lnTo>
                <a:lnTo>
                  <a:pt x="1014" y="729"/>
                </a:lnTo>
                <a:lnTo>
                  <a:pt x="1416" y="182"/>
                </a:lnTo>
                <a:lnTo>
                  <a:pt x="715" y="0"/>
                </a:lnTo>
                <a:lnTo>
                  <a:pt x="751" y="101"/>
                </a:lnTo>
                <a:close/>
              </a:path>
            </a:pathLst>
          </a:custGeom>
          <a:solidFill>
            <a:srgbClr val="99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8" name="Freeform 14"/>
          <p:cNvSpPr/>
          <p:nvPr/>
        </p:nvSpPr>
        <p:spPr>
          <a:xfrm>
            <a:off x="1170000" y="4189320"/>
            <a:ext cx="2057400" cy="2271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271960"/>
              <a:gd name="textAreaBottom" fmla="*/ 2271960 h 2271960"/>
            </a:gdLst>
            <a:ahLst/>
            <a:rect l="textAreaLeft" t="textAreaTop" r="textAreaRight" b="textAreaBottom"/>
            <a:pathLst>
              <a:path w="1296" h="1431">
                <a:moveTo>
                  <a:pt x="688" y="90"/>
                </a:moveTo>
                <a:lnTo>
                  <a:pt x="0" y="294"/>
                </a:lnTo>
                <a:lnTo>
                  <a:pt x="0" y="1431"/>
                </a:lnTo>
                <a:lnTo>
                  <a:pt x="565" y="1431"/>
                </a:lnTo>
                <a:lnTo>
                  <a:pt x="565" y="700"/>
                </a:lnTo>
                <a:lnTo>
                  <a:pt x="883" y="563"/>
                </a:lnTo>
                <a:lnTo>
                  <a:pt x="926" y="667"/>
                </a:lnTo>
                <a:lnTo>
                  <a:pt x="1296" y="166"/>
                </a:lnTo>
                <a:lnTo>
                  <a:pt x="654" y="0"/>
                </a:lnTo>
                <a:lnTo>
                  <a:pt x="688" y="9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9" name="Rectangle 10"/>
          <p:cNvSpPr/>
          <p:nvPr/>
        </p:nvSpPr>
        <p:spPr>
          <a:xfrm rot="20439600">
            <a:off x="2590920" y="4571640"/>
            <a:ext cx="6095880" cy="609480"/>
          </a:xfrm>
          <a:prstGeom prst="rect">
            <a:avLst/>
          </a:prstGeom>
          <a:solidFill>
            <a:srgbClr val="ff5050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usually longer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651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5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Operational: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Decisions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and action plans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on measures taken to deal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 with the assessed risks.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Deployment of resources; 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monitoring and review.</a:t>
            </a:r>
            <a:r>
              <a:rPr b="1" lang="en-U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86" name="Group 17"/>
          <p:cNvGrpSpPr/>
          <p:nvPr/>
        </p:nvGrpSpPr>
        <p:grpSpPr>
          <a:xfrm>
            <a:off x="228600" y="2971800"/>
            <a:ext cx="3014640" cy="3505320"/>
            <a:chOff x="228600" y="2971800"/>
            <a:chExt cx="3014640" cy="3505320"/>
          </a:xfrm>
        </p:grpSpPr>
        <p:sp>
          <p:nvSpPr>
            <p:cNvPr id="287" name="Rectangle 12"/>
            <p:cNvSpPr/>
            <p:nvPr/>
          </p:nvSpPr>
          <p:spPr>
            <a:xfrm>
              <a:off x="228600" y="2971800"/>
              <a:ext cx="30146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243000" y="2989440"/>
              <a:ext cx="2604960" cy="283824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641" h="1788">
                  <a:moveTo>
                    <a:pt x="747" y="177"/>
                  </a:moveTo>
                  <a:lnTo>
                    <a:pt x="674" y="0"/>
                  </a:lnTo>
                  <a:lnTo>
                    <a:pt x="1641" y="272"/>
                  </a:lnTo>
                  <a:lnTo>
                    <a:pt x="1094" y="1022"/>
                  </a:lnTo>
                  <a:lnTo>
                    <a:pt x="1025" y="855"/>
                  </a:lnTo>
                  <a:lnTo>
                    <a:pt x="815" y="944"/>
                  </a:lnTo>
                  <a:lnTo>
                    <a:pt x="815" y="1788"/>
                  </a:lnTo>
                  <a:lnTo>
                    <a:pt x="0" y="1788"/>
                  </a:lnTo>
                  <a:lnTo>
                    <a:pt x="0" y="394"/>
                  </a:lnTo>
                  <a:lnTo>
                    <a:pt x="747" y="177"/>
                  </a:lnTo>
                  <a:close/>
                </a:path>
              </a:pathLst>
            </a:custGeom>
            <a:solidFill>
              <a:srgbClr val="ff505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644400" y="3656160"/>
              <a:ext cx="2248200" cy="24811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2481120"/>
                <a:gd name="textAreaBottom" fmla="*/ 2481480 h 2481120"/>
              </a:gdLst>
              <a:ahLst/>
              <a:rect l="textAreaLeft" t="textAreaTop" r="textAreaRight" b="textAreaBottom"/>
              <a:pathLst>
                <a:path w="1416" h="1563">
                  <a:moveTo>
                    <a:pt x="751" y="101"/>
                  </a:moveTo>
                  <a:lnTo>
                    <a:pt x="0" y="323"/>
                  </a:lnTo>
                  <a:lnTo>
                    <a:pt x="0" y="1563"/>
                  </a:lnTo>
                  <a:lnTo>
                    <a:pt x="618" y="1563"/>
                  </a:lnTo>
                  <a:lnTo>
                    <a:pt x="618" y="765"/>
                  </a:lnTo>
                  <a:lnTo>
                    <a:pt x="966" y="615"/>
                  </a:lnTo>
                  <a:lnTo>
                    <a:pt x="1014" y="729"/>
                  </a:lnTo>
                  <a:lnTo>
                    <a:pt x="1416" y="182"/>
                  </a:lnTo>
                  <a:lnTo>
                    <a:pt x="715" y="0"/>
                  </a:lnTo>
                  <a:lnTo>
                    <a:pt x="751" y="101"/>
                  </a:lnTo>
                  <a:close/>
                </a:path>
              </a:pathLst>
            </a:custGeom>
            <a:solidFill>
              <a:srgbClr val="99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1170000" y="4189320"/>
              <a:ext cx="2057400" cy="22719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1296" h="1431">
                  <a:moveTo>
                    <a:pt x="688" y="90"/>
                  </a:moveTo>
                  <a:lnTo>
                    <a:pt x="0" y="294"/>
                  </a:lnTo>
                  <a:lnTo>
                    <a:pt x="0" y="1431"/>
                  </a:lnTo>
                  <a:lnTo>
                    <a:pt x="565" y="1431"/>
                  </a:lnTo>
                  <a:lnTo>
                    <a:pt x="565" y="700"/>
                  </a:lnTo>
                  <a:lnTo>
                    <a:pt x="883" y="563"/>
                  </a:lnTo>
                  <a:lnTo>
                    <a:pt x="926" y="667"/>
                  </a:lnTo>
                  <a:lnTo>
                    <a:pt x="1296" y="166"/>
                  </a:lnTo>
                  <a:lnTo>
                    <a:pt x="654" y="0"/>
                  </a:lnTo>
                  <a:lnTo>
                    <a:pt x="688" y="9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291" name="Rectangle 11"/>
          <p:cNvSpPr/>
          <p:nvPr/>
        </p:nvSpPr>
        <p:spPr>
          <a:xfrm rot="20682600">
            <a:off x="3276360" y="4419360"/>
            <a:ext cx="478764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medium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7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Tactical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Used by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officers at their workplace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to deal with immediate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situations, working within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set parameters and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to approved procedur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98" name="Group 17"/>
          <p:cNvGrpSpPr/>
          <p:nvPr/>
        </p:nvGrpSpPr>
        <p:grpSpPr>
          <a:xfrm>
            <a:off x="228600" y="2971800"/>
            <a:ext cx="3014640" cy="3505320"/>
            <a:chOff x="228600" y="2971800"/>
            <a:chExt cx="3014640" cy="3505320"/>
          </a:xfrm>
        </p:grpSpPr>
        <p:sp>
          <p:nvSpPr>
            <p:cNvPr id="299" name="Rectangle 12"/>
            <p:cNvSpPr/>
            <p:nvPr/>
          </p:nvSpPr>
          <p:spPr>
            <a:xfrm>
              <a:off x="228600" y="2971800"/>
              <a:ext cx="30146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0" name="Freeform 13"/>
            <p:cNvSpPr/>
            <p:nvPr/>
          </p:nvSpPr>
          <p:spPr>
            <a:xfrm>
              <a:off x="243000" y="2989440"/>
              <a:ext cx="2604960" cy="283824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641" h="1788">
                  <a:moveTo>
                    <a:pt x="747" y="177"/>
                  </a:moveTo>
                  <a:lnTo>
                    <a:pt x="674" y="0"/>
                  </a:lnTo>
                  <a:lnTo>
                    <a:pt x="1641" y="272"/>
                  </a:lnTo>
                  <a:lnTo>
                    <a:pt x="1094" y="1022"/>
                  </a:lnTo>
                  <a:lnTo>
                    <a:pt x="1025" y="855"/>
                  </a:lnTo>
                  <a:lnTo>
                    <a:pt x="815" y="944"/>
                  </a:lnTo>
                  <a:lnTo>
                    <a:pt x="815" y="1788"/>
                  </a:lnTo>
                  <a:lnTo>
                    <a:pt x="0" y="1788"/>
                  </a:lnTo>
                  <a:lnTo>
                    <a:pt x="0" y="394"/>
                  </a:lnTo>
                  <a:lnTo>
                    <a:pt x="747" y="177"/>
                  </a:lnTo>
                  <a:close/>
                </a:path>
              </a:pathLst>
            </a:custGeom>
            <a:solidFill>
              <a:srgbClr val="ff505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644400" y="3656160"/>
              <a:ext cx="2248200" cy="24811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2481120"/>
                <a:gd name="textAreaBottom" fmla="*/ 2481480 h 2481120"/>
              </a:gdLst>
              <a:ahLst/>
              <a:rect l="textAreaLeft" t="textAreaTop" r="textAreaRight" b="textAreaBottom"/>
              <a:pathLst>
                <a:path w="1416" h="1563">
                  <a:moveTo>
                    <a:pt x="751" y="101"/>
                  </a:moveTo>
                  <a:lnTo>
                    <a:pt x="0" y="323"/>
                  </a:lnTo>
                  <a:lnTo>
                    <a:pt x="0" y="1563"/>
                  </a:lnTo>
                  <a:lnTo>
                    <a:pt x="618" y="1563"/>
                  </a:lnTo>
                  <a:lnTo>
                    <a:pt x="618" y="765"/>
                  </a:lnTo>
                  <a:lnTo>
                    <a:pt x="966" y="615"/>
                  </a:lnTo>
                  <a:lnTo>
                    <a:pt x="1014" y="729"/>
                  </a:lnTo>
                  <a:lnTo>
                    <a:pt x="1416" y="182"/>
                  </a:lnTo>
                  <a:lnTo>
                    <a:pt x="715" y="0"/>
                  </a:lnTo>
                  <a:lnTo>
                    <a:pt x="751" y="101"/>
                  </a:lnTo>
                  <a:close/>
                </a:path>
              </a:pathLst>
            </a:custGeom>
            <a:solidFill>
              <a:srgbClr val="99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1170000" y="4189320"/>
              <a:ext cx="2057400" cy="22719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1296" h="1431">
                  <a:moveTo>
                    <a:pt x="688" y="90"/>
                  </a:moveTo>
                  <a:lnTo>
                    <a:pt x="0" y="294"/>
                  </a:lnTo>
                  <a:lnTo>
                    <a:pt x="0" y="1431"/>
                  </a:lnTo>
                  <a:lnTo>
                    <a:pt x="565" y="1431"/>
                  </a:lnTo>
                  <a:lnTo>
                    <a:pt x="565" y="700"/>
                  </a:lnTo>
                  <a:lnTo>
                    <a:pt x="883" y="563"/>
                  </a:lnTo>
                  <a:lnTo>
                    <a:pt x="926" y="667"/>
                  </a:lnTo>
                  <a:lnTo>
                    <a:pt x="1296" y="166"/>
                  </a:lnTo>
                  <a:lnTo>
                    <a:pt x="654" y="0"/>
                  </a:lnTo>
                  <a:lnTo>
                    <a:pt x="688" y="9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303" name="Rectangle 11"/>
          <p:cNvSpPr/>
          <p:nvPr/>
        </p:nvSpPr>
        <p:spPr>
          <a:xfrm rot="20779200">
            <a:off x="3352680" y="4343400"/>
            <a:ext cx="4724640" cy="60948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short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17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conomic benefits, by facilitating the movement of goods, ships, aircraft and people – when rated low ris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Makes more effective use of existing skills and experience – giving better resul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mproves the quality of Customs controls – information and accountabi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4920" y="1905120"/>
            <a:ext cx="701028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you should use Risk Management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7720" y="312372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process helps Administrations focus on priorities and in decisions on deploying limited resources to deal with the highest r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04920" y="1905120"/>
            <a:ext cx="701028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you should use Risk Management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838080" y="23623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first step is to look at your Customs context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role of Customs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are your national priorities and the expectations of the government and the public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nature of your operational environment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45720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you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500"/>
                            </p:stCondLst>
                            <p:childTnLst>
                              <p:par>
                                <p:cTn id="761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9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3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85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8128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85800" y="83808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85800" y="190512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Risk Management used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85800" y="403848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next steps in the Risk Management process are to:-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dentify the risks  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alyse the risks; and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valuate the risks,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but, if you are just starting on Risk Management planning: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304920" y="5334120"/>
            <a:ext cx="7315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does the information come from?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5029200" y="4648320"/>
            <a:ext cx="3200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does this?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0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85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838080" y="15238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1774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Responsibilities must be allocated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oint a Risk Management champion with appropriate qualifications, including experience and analytical skill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 a Risk Management Committee, representative of operational area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duct Risk Management Workshop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termine operating procedures. 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586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does the Risk Assess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4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8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2500"/>
                            </p:stCondLst>
                            <p:childTnLst>
                              <p:par>
                                <p:cTn id="842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838080" y="1523880"/>
            <a:ext cx="7391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dentify commodity or control risks; e.g., high duty rates or quantity controls, the demand for prohibited goods, such as drugs, pornography, traffic in CITES wildlif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search existing databases and records on commodity and trader histories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valuate current procedures to identify potential control weakness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rces of information for Risk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752480" y="1447920"/>
            <a:ext cx="6477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After identifying and analysing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risks, you can evaluat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likelihood of the risk event occurring?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838080" y="3276720"/>
            <a:ext cx="2743200" cy="2286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most certain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ikel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at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nlikel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are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886200" y="3809880"/>
            <a:ext cx="2438280" cy="20574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consequence if the risk event occurs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629400" y="2895480"/>
            <a:ext cx="20574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trem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ry high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at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w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egligible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6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9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2500"/>
                            </p:stCondLst>
                            <p:childTnLst>
                              <p:par>
                                <p:cTn id="918" nodeType="afterEffect" fill="hold" presetClass="entr" presetID="23" presetSubtype="27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600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35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70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500"/>
                            </p:stCondLst>
                            <p:childTnLst>
                              <p:par>
                                <p:cTn id="93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4000"/>
                            </p:stCondLst>
                            <p:childTnLst>
                              <p:par>
                                <p:cTn id="94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0"/>
                            </p:stCondLst>
                            <p:childTnLst>
                              <p:par>
                                <p:cTn id="94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1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143000" y="1676520"/>
            <a:ext cx="6781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You need to describe or to quantify exactly what the ‘Likelihood’ and ‘Consequence’ terms means to you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is helps in ensuring a consistent approach in future risk assessment and review and monitoring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t promotes a common understanding within the Administratio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6500"/>
                            </p:stCondLst>
                            <p:childTnLst>
                              <p:par>
                                <p:cTn id="963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7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143000" y="13716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establishing ‘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Likelihoo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’ and ‘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Consequenc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’ you can use a table like this to set a level of risk.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2743200"/>
          <a:ext cx="7467840" cy="2449440"/>
        </p:xfrm>
        <a:graphic>
          <a:graphicData uri="http://schemas.openxmlformats.org/drawingml/2006/table">
            <a:tbl>
              <a:tblPr/>
              <a:tblGrid>
                <a:gridCol w="1179720"/>
                <a:gridCol w="1257120"/>
                <a:gridCol w="1258920"/>
                <a:gridCol w="1257480"/>
                <a:gridCol w="1257120"/>
                <a:gridCol w="1257480"/>
              </a:tblGrid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rem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ligibl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most certain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kely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likely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a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58" name="Rectangle 112"/>
          <p:cNvSpPr/>
          <p:nvPr/>
        </p:nvSpPr>
        <p:spPr>
          <a:xfrm>
            <a:off x="380880" y="5410080"/>
            <a:ext cx="8001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ust define what these risk levels mean to you.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9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143000" y="1371600"/>
            <a:ext cx="7086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w and very low level risks can normally be accepted, subject to on-going monitoring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All other risks are included in the management pla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plan catalogues the risks, the level of risk, and describes a treatment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treatment is the action proposed, (and perhaps the resources allocated).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6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572000" y="16765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get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1295280" y="16765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velopment of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Profil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4572000" y="30481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ination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1295280" y="30481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dustry audi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295280" y="44197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and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ina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4572000" y="44197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mplianc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914400" y="152388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common method of treating risks is to develop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profiling and targeting system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s means – in the case of goods – selecting transactions for specific checks, according to trader, agent, origin of goods, commodity code, duty rate, routing, value, etc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914400" y="1447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omic Sans MS"/>
              </a:rPr>
              <a:t>Risk Profiles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are developed as a means of putting risk management into practice at the Operational level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1371600" y="2895480"/>
            <a:ext cx="632448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Risk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normally specific to a Customs office. It describes: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isk areas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essment of the level of risk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untermeasures adopted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ation date and review dates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ns of measuring effectiveness.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8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9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Good managemen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s steps that enable improvement in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logical and systema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ing or minimising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9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914400" y="1295280"/>
            <a:ext cx="7238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Using the profile information, consignments of goods, means of transport and people are targeted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profile information is used as the basis fo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Selection Criteria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2286000" y="3657600"/>
            <a:ext cx="5791320" cy="22096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Documents received and processed by Customs, i.e., cargo and passenger manifests, goods declarations, are compared against the Selection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04920" y="3733920"/>
            <a:ext cx="2286000" cy="213336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3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20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62120" y="3505320"/>
            <a:ext cx="7848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s are made by manual checks of documents, or by using automated system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Selected transactions or movements are subject to the actions detailed in the profile or plan, e.g., physical examination, audit, etc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7" name="AutoShape 9"/>
          <p:cNvSpPr/>
          <p:nvPr/>
        </p:nvSpPr>
        <p:spPr>
          <a:xfrm>
            <a:off x="990720" y="1523880"/>
            <a:ext cx="2209680" cy="198144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505320" y="1828800"/>
            <a:ext cx="1981080" cy="13716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Documents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and Dat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5791320" y="1523880"/>
            <a:ext cx="2209680" cy="1981440"/>
          </a:xfrm>
          <a:prstGeom prst="pie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movemen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&amp;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914400" y="13716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initial assessment made of the existence and level of risks must be evaluated on a regular basi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You need to measure the effectiveness of risk profiles and update as necessary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066680" y="373392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liable reporting of examination resul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mpliance measurement activit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eedback from the business communit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066680" y="533412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ults analysis and data comparis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5" nodeType="afterEffect" fill="hold" presetClass="entr" presetID="23" presetSubtype="27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0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90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starting point is the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Comic Sans MS"/>
              </a:rPr>
              <a:t>Action Plan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llocate responsibilities, e.g., a Risk Management Champion and a working 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luate how Risk Management processes can be best applie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you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nat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urvey existing skills and do a training needs assess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talogue existing sources of data or information that can help in identifying ris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0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low chart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icate and consult – within Customs, with other Agencies, the trading community and transport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btain IT tools or set up processes for effectively operating a selectivit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ide training in profiling/selectivit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est and gain confidence in the Risk Management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2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50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2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4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8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s presentation endeavors to cover briefly the concepts and the benefits of using Risk Management practices, particularly within Customs Administrations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processes and the many control options deserve further study, and many other sources of information on this topic are 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1600200" y="4800600"/>
            <a:ext cx="579132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Facilitation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657600" y="5562720"/>
            <a:ext cx="510552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..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4" name="AutoShape 8">
            <a:hlinkClick r:id="" action="ppaction://hlinkshowjump?jump=endshow"/>
          </p:cNvPr>
          <p:cNvSpPr/>
          <p:nvPr/>
        </p:nvSpPr>
        <p:spPr>
          <a:xfrm>
            <a:off x="85345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425" name="Picture 10" descr="G:\Pics\unctadb.gif"/>
          <p:cNvPicPr/>
          <p:nvPr/>
        </p:nvPicPr>
        <p:blipFill>
          <a:blip r:embed="rId1"/>
          <a:stretch/>
        </p:blipFill>
        <p:spPr>
          <a:xfrm>
            <a:off x="914400" y="838080"/>
            <a:ext cx="523800" cy="685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r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6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2" nodeType="afterEffect" fill="hold" presetClass="entr" presetID="19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7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8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2133360"/>
            <a:ext cx="69339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name given to a logical and systematic method of identifying, analysing, treating and monitoring the risks involved in any activity or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2666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methodology that helps managers make best use of their availabl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practices are widely used in public and the private sectors, covering a wide range of activities or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se includ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62720" y="1905120"/>
            <a:ext cx="2666880" cy="3962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Finance and Investment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Insuranc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Health Car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Public Institu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Govern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Effective Risk Manag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s a recognised and valued ski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ducational institutions have formal study courses and award degrees in Risk Manag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Risk Management process is well establishe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International RM process standards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5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28954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tegra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t of business pla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4500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03:58:05Z</dcterms:created>
  <dc:creator>Roger Paull</dc:creator>
  <dc:description/>
  <dc:language>en-US</dc:language>
  <cp:lastModifiedBy>JHoover</cp:lastModifiedBy>
  <cp:lastPrinted>1999-08-19T04:35:35Z</cp:lastPrinted>
  <dcterms:modified xsi:type="dcterms:W3CDTF">2011-07-25T17:34:52Z</dcterms:modified>
  <cp:revision>68</cp:revision>
  <dc:subject/>
  <dc:title>Risk Manag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asycuda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\KL Presentation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